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1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30.wmf" ContentType="image/x-wmf"/>
  <Override PartName="/ppt/media/image28.wmf" ContentType="image/x-wmf"/>
  <Override PartName="/ppt/media/image42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2FA-E7F5-4B42-9304-CCC0F880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4BE-F36C-4B16-AAD8-206CC10D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24A-86D2-4FE9-A9CF-C997EFAC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A3E-A7C5-492D-B0A1-BA8B1E40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277-8131-4A3A-A6AD-4D6F299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0F55-454E-4268-9E29-806E3394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65B-112C-4DD2-A675-A4E1C369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28F-31C3-4E5B-82B2-14103C1C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C62-FEA0-4B5B-AEFD-BD90B82D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FBB-E2B0-4AFB-9479-83B1BB77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E3D-6E87-42E4-9F71-8CF6CFF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CBA-612A-4419-B950-B07F0D0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D4A2-A501-42A7-A709-99B7D288AD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roomd113.com/TAKS%20TEST.htm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777240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Use lab aprons and safety goggles during all laboratory sess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When diluting acid add acid to water slowly, stirring constantl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To smell something, hold it away from your nose and waft the fumes towards your no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Point the test tube away from you and others when heat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Never heat anything in a closed contain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Reactions that produce toxic gases should be performed in a fume hoo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.Broken glass should be placed in a proper contain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.While analyzing samples wear rubber glo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.When working with dissections or chemicals, keep your hands away from your fac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4290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5943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848360" cy="588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7280" y="6156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3352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ne graph is a visual display that uses plotted points and lines to show a relationship between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ARIAB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 graphs have two scales called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x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dependent variable on this graph is plotted on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i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pendent variable is plotted on the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3865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29200" y="152280"/>
            <a:ext cx="4114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rediction is what is likely to happen based on observa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extending predicting values beyond points plotted on a graphed line is called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extrapo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cess of predicting values between the graphed points is called </a:t>
            </a: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interpo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9880"/>
            <a:ext cx="91440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will be the temperature of the water after it has been heated for 70 minute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is the temperature of the water after 15 minutes of heating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is the dependent variable in this graph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Arial"/>
              </a:rPr>
              <a:t>TEMP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8001000" cy="5992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7712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72200" y="6156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fer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n interpretation based on experience and knowledge rather than on direct obser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bags of garbage are at the curb when you leave for school but are gone when you return, you infer that a garbage pickup took place although you did not see it happ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3224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62520" y="0"/>
            <a:ext cx="518148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itle would you give this grap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Volume – Pressur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ndependent variable in this grap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ess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dependent variable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ould be a valid conclusion drawn from this graph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As pressure increases, volume decre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3976560"/>
            <a:ext cx="3809880" cy="226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9880" y="3962520"/>
            <a:ext cx="5334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e steeper the slope, the greater the cha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gment of the graph shows the vehicle moving with greatest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gment of the graph shows no mov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14800" cy="3282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43400" y="304920"/>
            <a:ext cx="480060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 graphs are useful in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compar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data of several item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perty being measured appears in the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vertic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xi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ata being compared appears on the </a:t>
            </a: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horizonta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xi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4114800"/>
            <a:ext cx="891540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he given graph which fruit had maximum sal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Or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the given bar graph how many more kilograms of apples were sold than mango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00"/>
                </a:solidFill>
                <a:latin typeface="Arial"/>
              </a:rPr>
              <a:t>18 K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467480" cy="559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72200" y="5943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300560" cy="387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495680" y="228600"/>
            <a:ext cx="449604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total spending is $55,000, how much money was spent on highway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spent on high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50,000x 7/100  = $3,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how many times the amount of spending on highways is spent on educ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spent on edu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50,000x 34/100 = $17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$17,000/ $3,500 = 4.86 times more money was spent on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1814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nditure of state and local govern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86600" y="6019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34320" y="5943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076960" cy="605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8229600" cy="6165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91520" y="62164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153640" cy="610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54380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543800" y="61563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153640" cy="610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876920"/>
            <a:ext cx="76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156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229600" cy="6166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5937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9400" y="6156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537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5880" y="59436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599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934320" y="6156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696440" cy="5765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62320" y="6095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mL – 38mL = 9 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6166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86600" y="6216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valuating Promotional Material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group is the group not receiving experimental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fully read claims and make sure you can separate fact from opin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carefully if the claim is based on scientif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claim is based on data, what kind of data is used to support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39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543800" y="6278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77320" cy="605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9400" y="6156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6960" cy="6051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40384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216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29600" cy="6165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077320" y="6156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ientific method is the process of seeking answers to scientific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53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5880" y="5867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816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457200"/>
          <a:ext cx="7772400" cy="5802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772400" cy="58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576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6156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599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086600" y="6156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772400" cy="582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15200" y="615636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22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0120" y="61563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37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156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http://www.roomd113.com/TAKS%20TEST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ature of Science Quiz Answer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a)290 MILES  b) 11.92 miles/hour    c) The car was at rest d) Going in the reverse direction e) 20 miles in the first 2 hours  f)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 a) Quantity Demanded  Per week of Bushel   b) No        c)10 Bushel per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a) 1070  b) 13% c) 330  d) 2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 a) Atomic Number b) Ionization Energy c) 5  d) Helium e) V-shap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79440" y="47520"/>
            <a:ext cx="990288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Lab Equip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at equipment would you use to measure the density of a marble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99"/>
                </a:solidFill>
                <a:latin typeface="Arial"/>
              </a:rPr>
              <a:t>Graduated cylinder, triple beam bala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you use to distinguish between an acid and a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tmus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ab equipment would you use to measure the kinetic ener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 toy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iple beam balance, ruler, stop w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strument is used to measure the temperat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ermo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evice is used to measure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pect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strument is used to measure light intens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ghtm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239240" cy="542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62720" y="58672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38880" cy="5423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43600" y="5791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5651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19920" y="58672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70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00800" y="5943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8:58:43Z</dcterms:created>
  <dc:creator>Clear Creek ISD</dc:creator>
  <dc:description/>
  <dc:language>en-US</dc:language>
  <cp:lastModifiedBy>Clear Creek ISD</cp:lastModifiedBy>
  <dcterms:modified xsi:type="dcterms:W3CDTF">2009-04-17T19:54:20Z</dcterms:modified>
  <cp:revision>23</cp:revision>
  <dc:subject/>
  <dc:title>Slide 1</dc:title>
</cp:coreProperties>
</file>